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ECB-DCF5-4F2E-BACF-C72F2EB2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728-97DD-4276-8D53-12F2107D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200-2EF5-4AED-BCFC-DFA936CF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470-5E03-4B08-9FE1-1009FDD5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E7A-54AC-44BD-9349-7FA6327D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8D3-1CDA-431B-BD5F-B9986234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F07-42F7-4366-9E22-F7730CA5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FF0-042E-4A3E-8A52-6CEDDF7A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8E3-E494-4F2A-8DEA-6A9BE51B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3C8-EE38-4B9C-8DE2-1A3334C1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F3F-0D34-4438-9220-A292174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D0A-F479-4BBF-9D9E-8F41D005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5B55-D09B-43FE-AD09-BF9B3374F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Free Thro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ordan Proff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632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3817800"/>
            <a:ext cx="304812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n boys who play basketball make more free throws than boys who don’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Hypo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predict that boys will make more free throws than girls because we have a better form and are stro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ketball( women’s basket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in, Scott, Cody, 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eb, Henry, Cole, 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per and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2855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2830680"/>
            <a:ext cx="4038480" cy="4027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114800" y="3532320"/>
            <a:ext cx="50292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5:31Z</dcterms:created>
  <dc:creator>USD376</dc:creator>
  <dc:description/>
  <dc:language>en-US</dc:language>
  <cp:lastModifiedBy>STERLING  USD376</cp:lastModifiedBy>
  <dcterms:modified xsi:type="dcterms:W3CDTF">2010-05-03T14:31:58Z</dcterms:modified>
  <cp:revision>16</cp:revision>
  <dc:subject/>
  <dc:title>Science Fair Project</dc:title>
</cp:coreProperties>
</file>